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0.wmf" ContentType="image/x-wmf"/>
  <Override PartName="/ppt/media/image5.wmf" ContentType="image/x-wmf"/>
  <Override PartName="/ppt/media/image1.jpeg" ContentType="image/jpeg"/>
  <Override PartName="/ppt/media/PROJCTOR.WAV" ContentType="audio/x-wav"/>
  <Override PartName="/ppt/media/image4.wmf" ContentType="image/x-wmf"/>
  <Override PartName="/ppt/media/WHOOSH.WAV" ContentType="audio/x-wav"/>
  <Override PartName="/ppt/media/image7.wmf" ContentType="image/x-wmf"/>
  <Override PartName="/ppt/media/GLASS.WAV" ContentType="audio/x-wav"/>
  <Override PartName="/ppt/media/CHIMES.WAV" ContentType="audio/x-wav"/>
  <Override PartName="/ppt/media/image6.wmf" ContentType="image/x-wmf"/>
  <Override PartName="/ppt/media/RICOCHET.WAV" ContentType="audio/x-wav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E7E-0115-4A34-AC7B-E58BB30F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586-EA2E-41D1-96DD-2EF57C90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80F-146D-4927-8C22-A8129E47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877-0086-49A2-B3E9-726F541A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72C7-6896-4A17-B654-87F7CF3D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667F-AE14-48B9-84C5-DACA7E2A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DDD8-EA8D-4ED2-B15E-A49BDB4B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E594-CAC3-4E3C-93DB-F44491C6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95D9-A2A1-4FFF-9BD6-2708E272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0E40-9C51-4C36-B866-C86B3D3A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EE2-01D1-4964-A240-84BD5BE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268-6780-4E3D-B437-F9E5CE92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BD18-B2E9-4105-BBCE-1AC4DD35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4181-BB80-47B7-9C51-40DE4D32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8A84-B72B-4143-B23F-25B10509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BEDF-4DF8-4242-8398-3B415177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743C-F045-45DB-8063-B8D5F0A3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FFE-A21F-4700-9A30-7E88668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3EB-3C95-41D9-B722-4A77F17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814-37A3-49CD-9C7A-ACA570F4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787-A7E6-48FA-AF20-F58E818C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1A6-B479-4729-80E5-1B835E5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900-C419-4B56-A466-578F5DFE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55B-E735-4966-AB16-C12F9FF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F83A-E11B-42CF-BFE9-F27118D5F8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77D5-6D96-417E-8CC7-BC6D3635CC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GLAS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SOLVING QUADRATICS</a:t>
            </a:r>
            <a:endParaRPr b="0" lang="en-US" sz="4400" spc="-1" strike="noStrike">
              <a:solidFill>
                <a:srgbClr val="3366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304920"/>
                <a:ext cx="2438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76920" y="1523880"/>
                <a:ext cx="248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24080" y="2971800"/>
                <a:ext cx="204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66880" y="4267080"/>
                <a:ext cx="35816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  <m:r>
                            <m:t xml:space="preserve">≈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  <m:r>
                            <m:t xml:space="preserve">≈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2590920" y="2895480"/>
            <a:ext cx="6095880" cy="838440"/>
            <a:chOff x="2590920" y="2895480"/>
            <a:chExt cx="6095880" cy="838440"/>
          </a:xfrm>
        </p:grpSpPr>
        <p:sp>
          <p:nvSpPr>
            <p:cNvPr id="178" name=""/>
            <p:cNvSpPr/>
            <p:nvPr/>
          </p:nvSpPr>
          <p:spPr>
            <a:xfrm>
              <a:off x="5791320" y="2971800"/>
              <a:ext cx="289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xact answ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0920" y="2895480"/>
              <a:ext cx="5867280" cy="838440"/>
            </a:xfrm>
            <a:prstGeom prst="rect">
              <a:avLst/>
            </a:prstGeom>
            <a:noFill/>
            <a:ln w="25560">
              <a:solidFill>
                <a:srgbClr val="ff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05120" y="4038480"/>
            <a:ext cx="7086600" cy="1524240"/>
            <a:chOff x="1905120" y="4038480"/>
            <a:chExt cx="7086600" cy="1524240"/>
          </a:xfrm>
        </p:grpSpPr>
        <p:sp>
          <p:nvSpPr>
            <p:cNvPr id="181" name=""/>
            <p:cNvSpPr/>
            <p:nvPr/>
          </p:nvSpPr>
          <p:spPr>
            <a:xfrm>
              <a:off x="6553080" y="4435560"/>
              <a:ext cx="2362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Decimal approxim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05120" y="4038480"/>
              <a:ext cx="7086600" cy="1524240"/>
            </a:xfrm>
            <a:prstGeom prst="rect">
              <a:avLst/>
            </a:prstGeom>
            <a:noFill/>
            <a:ln w="25560">
              <a:solidFill>
                <a:srgbClr val="ff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80880" y="457200"/>
            <a:ext cx="335304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that 2 is a factor of the numer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616040"/>
            <a:ext cx="3657600" cy="119124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2 is factored out, it can be cancelled with the 2 in the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952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2 :   Quadratic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06668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25960" y="990720"/>
                <a:ext cx="2827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019920" y="152280"/>
                <a:ext cx="2743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286160" y="2652840"/>
                <a:ext cx="3390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273560" y="3751200"/>
                <a:ext cx="2808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254480" y="4699080"/>
                <a:ext cx="21780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248000" y="5732640"/>
                <a:ext cx="2319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80880" y="2286000"/>
            <a:ext cx="4724640" cy="436320"/>
          </a:xfrm>
          <a:prstGeom prst="rect">
            <a:avLst/>
          </a:prstGeom>
          <a:solidFill>
            <a:srgbClr val="ffd1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a =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3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8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and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c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600200"/>
            <a:ext cx="6553440" cy="520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Determin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895480"/>
            <a:ext cx="3505320" cy="916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Substitut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48120"/>
            <a:ext cx="350532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impl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6019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See next sl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715000"/>
            <a:ext cx="3276720" cy="997920"/>
          </a:xfrm>
          <a:prstGeom prst="rect">
            <a:avLst/>
          </a:prstGeom>
          <a:solidFill>
            <a:srgbClr val="ceff9d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tep is optional. Students need to have covered su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73392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48040" y="1523880"/>
                <a:ext cx="27417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98800" y="2914560"/>
                <a:ext cx="23004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7400" y="4579920"/>
                <a:ext cx="4444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e>
                      </m:mr>
                      <m:mr>
                        <m:e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2590920" y="2895480"/>
            <a:ext cx="6171840" cy="1142640"/>
            <a:chOff x="2590920" y="2895480"/>
            <a:chExt cx="6171840" cy="1142640"/>
          </a:xfrm>
        </p:grpSpPr>
        <p:sp>
          <p:nvSpPr>
            <p:cNvPr id="204" name=""/>
            <p:cNvSpPr/>
            <p:nvPr/>
          </p:nvSpPr>
          <p:spPr>
            <a:xfrm>
              <a:off x="5831280" y="2999160"/>
              <a:ext cx="293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xact answ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90920" y="2895480"/>
              <a:ext cx="5940720" cy="1142640"/>
            </a:xfrm>
            <a:prstGeom prst="rect">
              <a:avLst/>
            </a:prstGeom>
            <a:noFill/>
            <a:ln w="25560">
              <a:solidFill>
                <a:srgbClr val="ff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752480" y="4495680"/>
            <a:ext cx="7238880" cy="2057040"/>
            <a:chOff x="1752480" y="4495680"/>
            <a:chExt cx="7238880" cy="2057040"/>
          </a:xfrm>
        </p:grpSpPr>
        <p:sp>
          <p:nvSpPr>
            <p:cNvPr id="207" name=""/>
            <p:cNvSpPr/>
            <p:nvPr/>
          </p:nvSpPr>
          <p:spPr>
            <a:xfrm>
              <a:off x="6500520" y="5031360"/>
              <a:ext cx="2413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Decimal approxim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52480" y="4495680"/>
              <a:ext cx="7238880" cy="2057040"/>
            </a:xfrm>
            <a:prstGeom prst="rect">
              <a:avLst/>
            </a:prstGeom>
            <a:noFill/>
            <a:ln w="25560">
              <a:solidFill>
                <a:srgbClr val="ff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457200"/>
            <a:ext cx="335304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that 2 is a factor of the numer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16040"/>
            <a:ext cx="3657600" cy="119124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2 is factored out, it can be cancelled with the 6 in the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876920" y="380880"/>
                <a:ext cx="2514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3952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2 :   Quadratic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06668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3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206880" y="990720"/>
                <a:ext cx="2865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19920" y="152280"/>
                <a:ext cx="2743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05240" y="2652840"/>
                <a:ext cx="3619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365720" y="3751200"/>
                <a:ext cx="27208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403880" y="4818240"/>
                <a:ext cx="2149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80880" y="2286000"/>
            <a:ext cx="4724640" cy="436320"/>
          </a:xfrm>
          <a:prstGeom prst="rect">
            <a:avLst/>
          </a:prstGeom>
          <a:solidFill>
            <a:srgbClr val="ffd1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a =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5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–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 7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and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c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600200"/>
            <a:ext cx="6553440" cy="520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Determin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895480"/>
            <a:ext cx="3505320" cy="916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Substitut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3948120"/>
            <a:ext cx="350532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impl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724280"/>
            <a:ext cx="3505320" cy="1281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- you cannot find the square root of a negative num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57913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real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75300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90720" y="625320"/>
            <a:ext cx="6933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That was a lot of work to find that there was no solution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241720"/>
            <a:ext cx="69339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It would be useful to be able to “test” the equation before we start.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4282920"/>
            <a:ext cx="6933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For this we use the DISCRIMINA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533520"/>
            <a:ext cx="396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The Discrimin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1600200"/>
            <a:ext cx="739116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discriminant is a quick way to check how many real solutions exist for a given quadratic equation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886280" y="412920"/>
                <a:ext cx="3029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990720" y="3537000"/>
            <a:ext cx="7010280" cy="1647000"/>
            <a:chOff x="990720" y="3537000"/>
            <a:chExt cx="7010280" cy="1647000"/>
          </a:xfrm>
        </p:grpSpPr>
        <p:sp>
          <p:nvSpPr>
            <p:cNvPr id="233" name=""/>
            <p:cNvSpPr/>
            <p:nvPr/>
          </p:nvSpPr>
          <p:spPr>
            <a:xfrm>
              <a:off x="990720" y="3537000"/>
              <a:ext cx="70102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990099"/>
                  </a:solidFill>
                  <a:latin typeface="Arial"/>
                </a:rPr>
                <a:t>As shown above the symbol for the discriminant is     and it is calculated using              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343400" y="4572000"/>
                  <a:ext cx="152388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894120" y="4000680"/>
                  <a:ext cx="525600" cy="61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22860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Summary of Results using  Discrimin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313000"/>
            <a:ext cx="1295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&gt; 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1981080"/>
            <a:ext cx="480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equation has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two 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real solu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29000" y="907920"/>
                <a:ext cx="30290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905120" y="3684600"/>
            <a:ext cx="1295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= 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8720" y="3444840"/>
            <a:ext cx="5025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equation has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one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 real solu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132520"/>
            <a:ext cx="1295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&lt; 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22400" y="4816440"/>
            <a:ext cx="4950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equation has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no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 real solu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42880" y="4952880"/>
                <a:ext cx="519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461960" y="21528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428840" y="35244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Relating the Discriminant to grap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&gt;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29000" y="907920"/>
                <a:ext cx="30290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85800" y="4648320"/>
            <a:ext cx="78487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graph cuts the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-axis in two places.  These are the two real solutions to the quadratic equat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14400" y="2286000"/>
          <a:ext cx="221940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22194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809880" y="2286000"/>
          <a:ext cx="2067120" cy="21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0"/>
                    <a:ext cx="206712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23960" y="158112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6" name=""/>
          <p:cNvGraphicFramePr/>
          <p:nvPr/>
        </p:nvGraphicFramePr>
        <p:xfrm>
          <a:off x="6467400" y="2209680"/>
          <a:ext cx="206712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7400" y="2209680"/>
                    <a:ext cx="2067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22860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Relating the Discriminant to grap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429000" y="907920"/>
                <a:ext cx="30290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143000" y="1676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4876920"/>
            <a:ext cx="769608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se graphs have their turning point on the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-axis and hence there is only the one solut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38080" y="2286000"/>
          <a:ext cx="221940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22194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581280" y="2057400"/>
          <a:ext cx="23716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057400"/>
                    <a:ext cx="2371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85800" y="16002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6391440" y="2057400"/>
          <a:ext cx="237168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1440" y="2057400"/>
                    <a:ext cx="2371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22860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Relating the Discriminant to grap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29000" y="907920"/>
                <a:ext cx="30290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066680" y="1676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&lt;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029200"/>
            <a:ext cx="739152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re are no solutions in this case because the graphs do not intersect with the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-axi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09480" y="2286000"/>
          <a:ext cx="221940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22194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505320" y="2286000"/>
          <a:ext cx="23716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286000"/>
                    <a:ext cx="2371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28560" y="16002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8" name=""/>
          <p:cNvGraphicFramePr/>
          <p:nvPr/>
        </p:nvGraphicFramePr>
        <p:xfrm>
          <a:off x="6315120" y="2286000"/>
          <a:ext cx="237168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15120" y="2286000"/>
                    <a:ext cx="2371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SOLVING QUADRATICS</a:t>
            </a:r>
            <a:endParaRPr b="0" lang="en-US" sz="44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39880" y="2446200"/>
            <a:ext cx="276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057400" y="3048120"/>
                <a:ext cx="57150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8360" y="4703760"/>
            <a:ext cx="56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consta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45720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3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ng the Square Techn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200400" y="1066680"/>
                <a:ext cx="3125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38280" y="2057400"/>
                <a:ext cx="3865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110040" y="3581280"/>
                <a:ext cx="3214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33520" y="1203480"/>
            <a:ext cx="243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33520" y="2819160"/>
            <a:ext cx="2971800" cy="1038600"/>
            <a:chOff x="533520" y="2819160"/>
            <a:chExt cx="2971800" cy="1038600"/>
          </a:xfrm>
        </p:grpSpPr>
        <p:sp>
          <p:nvSpPr>
            <p:cNvPr id="286" name=""/>
            <p:cNvSpPr/>
            <p:nvPr/>
          </p:nvSpPr>
          <p:spPr>
            <a:xfrm>
              <a:off x="533520" y="2971800"/>
              <a:ext cx="1828800" cy="885960"/>
            </a:xfrm>
            <a:prstGeom prst="rect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This value is half </a:t>
              </a:r>
              <a:r>
                <a:rPr b="1" i="1" lang="en-US" sz="2600" spc="-1" strike="noStrike">
                  <a:solidFill>
                    <a:srgbClr val="990099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2320" y="3352680"/>
              <a:ext cx="11430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505320" y="2819160"/>
              <a:ext cx="0" cy="5331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572000" y="2590920"/>
            <a:ext cx="4114800" cy="1440360"/>
            <a:chOff x="4572000" y="2590920"/>
            <a:chExt cx="4114800" cy="1440360"/>
          </a:xfrm>
        </p:grpSpPr>
        <p:sp>
          <p:nvSpPr>
            <p:cNvPr id="290" name=""/>
            <p:cNvSpPr/>
            <p:nvPr/>
          </p:nvSpPr>
          <p:spPr>
            <a:xfrm>
              <a:off x="6400800" y="2590920"/>
              <a:ext cx="2286000" cy="1440360"/>
            </a:xfrm>
            <a:prstGeom prst="rect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Subtract the square of the number in the bracke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2000" y="3352680"/>
              <a:ext cx="18288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572000" y="2819160"/>
              <a:ext cx="0" cy="5331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09880" y="4324320"/>
                <a:ext cx="2471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424400" y="4991040"/>
                <a:ext cx="27385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148360" y="5810400"/>
                <a:ext cx="2776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380880" y="4419720"/>
            <a:ext cx="320040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6 to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5105520"/>
            <a:ext cx="3200400" cy="7671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the square root of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6019920"/>
            <a:ext cx="3200400" cy="727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ract 3 from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58128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502920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0880" y="45720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3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ng the Square Techn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51460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This result gives us the exact answers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505320" y="1295280"/>
                <a:ext cx="2776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71400" y="3124080"/>
                <a:ext cx="4129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00640" y="3143160"/>
                <a:ext cx="27766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609480" y="39466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Use your calculator to find decimal approximations accurate to two decimal places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33600" y="5113440"/>
                <a:ext cx="5781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or    </m:t>
                    </m:r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0880" y="45720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3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ng the Square Techn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220920" y="1066680"/>
                <a:ext cx="3083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28920" y="1778040"/>
                <a:ext cx="38196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505320" y="3251160"/>
                <a:ext cx="2743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533520" y="1203480"/>
            <a:ext cx="243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267080" y="4146480"/>
                <a:ext cx="2210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551480" y="5008680"/>
                <a:ext cx="24588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334120" y="5813280"/>
                <a:ext cx="2286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80880" y="5105520"/>
            <a:ext cx="3200400" cy="7671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the square root of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6019920"/>
            <a:ext cx="3200400" cy="727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ract 2.5 from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33520" y="2895480"/>
            <a:ext cx="2895480" cy="895320"/>
            <a:chOff x="533520" y="2895480"/>
            <a:chExt cx="2895480" cy="895320"/>
          </a:xfrm>
        </p:grpSpPr>
        <p:sp>
          <p:nvSpPr>
            <p:cNvPr id="319" name=""/>
            <p:cNvSpPr/>
            <p:nvPr/>
          </p:nvSpPr>
          <p:spPr>
            <a:xfrm>
              <a:off x="533520" y="2904840"/>
              <a:ext cx="1828800" cy="885960"/>
            </a:xfrm>
            <a:prstGeom prst="rect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This value is half </a:t>
              </a:r>
              <a:r>
                <a:rPr b="1" i="1" lang="en-US" sz="2600" spc="-1" strike="noStrike">
                  <a:solidFill>
                    <a:srgbClr val="990099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2320" y="3276360"/>
              <a:ext cx="106668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429000" y="2895480"/>
              <a:ext cx="0" cy="3808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48320" y="2438280"/>
            <a:ext cx="4038480" cy="1440360"/>
            <a:chOff x="4648320" y="2438280"/>
            <a:chExt cx="4038480" cy="1440360"/>
          </a:xfrm>
        </p:grpSpPr>
        <p:sp>
          <p:nvSpPr>
            <p:cNvPr id="323" name=""/>
            <p:cNvSpPr/>
            <p:nvPr/>
          </p:nvSpPr>
          <p:spPr>
            <a:xfrm>
              <a:off x="6400800" y="2438280"/>
              <a:ext cx="2286000" cy="1440360"/>
            </a:xfrm>
            <a:prstGeom prst="rect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Subtract the square of the number in the bracke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648320" y="3276360"/>
              <a:ext cx="175248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648320" y="2895480"/>
              <a:ext cx="0" cy="3808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0880" y="4419720"/>
            <a:ext cx="3200400" cy="489960"/>
            <a:chOff x="380880" y="4419720"/>
            <a:chExt cx="3200400" cy="489960"/>
          </a:xfrm>
        </p:grpSpPr>
        <p:sp>
          <p:nvSpPr>
            <p:cNvPr id="327" name=""/>
            <p:cNvSpPr/>
            <p:nvPr/>
          </p:nvSpPr>
          <p:spPr>
            <a:xfrm>
              <a:off x="380880" y="4419720"/>
              <a:ext cx="3200400" cy="489960"/>
            </a:xfrm>
            <a:prstGeom prst="rect">
              <a:avLst/>
            </a:prstGeom>
            <a:solidFill>
              <a:srgbClr val="ffd1ff"/>
            </a:solidFill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dd    to both sid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1143000" y="4495680"/>
                  <a:ext cx="22860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9" name=""/>
          <p:cNvSpPr/>
          <p:nvPr/>
        </p:nvSpPr>
        <p:spPr>
          <a:xfrm>
            <a:off x="3048120" y="3352680"/>
            <a:ext cx="312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880" y="4572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Example 3:  Solv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733920" y="311040"/>
                <a:ext cx="3733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362320" y="1143000"/>
                <a:ext cx="395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981080" y="3740040"/>
                <a:ext cx="44211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7200" y="2286000"/>
                <a:ext cx="5992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6400800" y="1066680"/>
            <a:ext cx="2590920" cy="825480"/>
          </a:xfrm>
          <a:prstGeom prst="rect">
            <a:avLst/>
          </a:prstGeom>
          <a:solidFill>
            <a:srgbClr val="e8d1ff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Factor out the coefficient of x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209680" y="4419720"/>
                <a:ext cx="41562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380880" y="2895480"/>
            <a:ext cx="1981440" cy="987480"/>
            <a:chOff x="380880" y="2895480"/>
            <a:chExt cx="1981440" cy="987480"/>
          </a:xfrm>
        </p:grpSpPr>
        <p:sp>
          <p:nvSpPr>
            <p:cNvPr id="338" name=""/>
            <p:cNvSpPr/>
            <p:nvPr/>
          </p:nvSpPr>
          <p:spPr>
            <a:xfrm>
              <a:off x="380880" y="3057480"/>
              <a:ext cx="1752840" cy="825480"/>
            </a:xfrm>
            <a:prstGeom prst="rect">
              <a:avLst/>
            </a:prstGeom>
            <a:solidFill>
              <a:srgbClr val="e8d1ff"/>
            </a:solidFill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This value is half </a:t>
              </a:r>
              <a:r>
                <a:rPr b="1" i="1" lang="en-US" sz="2400" spc="-1" strike="noStrike">
                  <a:solidFill>
                    <a:srgbClr val="9900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3429000"/>
              <a:ext cx="2286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62320" y="2895480"/>
              <a:ext cx="0" cy="53352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09520" y="2514600"/>
            <a:ext cx="4877280" cy="1336680"/>
            <a:chOff x="3809520" y="2514600"/>
            <a:chExt cx="4877280" cy="1336680"/>
          </a:xfrm>
        </p:grpSpPr>
        <p:grpSp>
          <p:nvGrpSpPr>
            <p:cNvPr id="342" name=""/>
            <p:cNvGrpSpPr/>
            <p:nvPr/>
          </p:nvGrpSpPr>
          <p:grpSpPr>
            <a:xfrm>
              <a:off x="3809520" y="2514600"/>
              <a:ext cx="4877280" cy="1336680"/>
              <a:chOff x="3809520" y="2514600"/>
              <a:chExt cx="4877280" cy="1336680"/>
            </a:xfrm>
          </p:grpSpPr>
          <p:sp>
            <p:nvSpPr>
              <p:cNvPr id="343" name=""/>
              <p:cNvSpPr/>
              <p:nvPr/>
            </p:nvSpPr>
            <p:spPr>
              <a:xfrm>
                <a:off x="6553080" y="2514600"/>
                <a:ext cx="2133720" cy="1336680"/>
              </a:xfrm>
              <a:prstGeom prst="rect">
                <a:avLst/>
              </a:prstGeom>
              <a:solidFill>
                <a:srgbClr val="e8d1ff"/>
              </a:solidFill>
              <a:ln w="1908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Arial"/>
                  </a:rPr>
                  <a:t>Subtract the square of the number in the brack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3809520" y="3429000"/>
                <a:ext cx="205740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809880" y="2895480"/>
                <a:ext cx="0" cy="53352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5334120" y="3429000"/>
              <a:ext cx="121896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498840" y="5181480"/>
                <a:ext cx="38163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25720" y="5797440"/>
                <a:ext cx="3173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6781680" y="62928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See next sl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066680"/>
            <a:ext cx="3429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3733920"/>
            <a:ext cx="4419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971800" y="380880"/>
                <a:ext cx="37339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29000" y="1295280"/>
                <a:ext cx="417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419720" y="2362320"/>
                <a:ext cx="4089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444840"/>
                <a:ext cx="5346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715000" y="3443400"/>
                <a:ext cx="35812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5486400" y="2362320"/>
            <a:ext cx="3276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838080" y="380880"/>
            <a:ext cx="708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thod 4   Graphic Calcul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1658880"/>
            <a:ext cx="426708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Graph the function and find the value of the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-intercep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14400" y="2209680"/>
            <a:ext cx="2133720" cy="2361960"/>
            <a:chOff x="914400" y="2209680"/>
            <a:chExt cx="2133720" cy="2361960"/>
          </a:xfrm>
        </p:grpSpPr>
        <p:sp>
          <p:nvSpPr>
            <p:cNvPr id="361" name=""/>
            <p:cNvSpPr/>
            <p:nvPr/>
          </p:nvSpPr>
          <p:spPr>
            <a:xfrm flipV="1">
              <a:off x="914400" y="2209680"/>
              <a:ext cx="2057400" cy="16761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4400" y="3885840"/>
              <a:ext cx="2133720" cy="6858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200400" y="4038480"/>
            <a:ext cx="525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Use a solver function for a polynomial of degree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00"/>
                </a:solidFill>
                <a:latin typeface="Arial"/>
              </a:rPr>
              <a:t>We wish to thank our supporters:</a:t>
            </a:r>
            <a:endParaRPr b="0" lang="en-US" sz="3400" spc="-1" strike="noStrike">
              <a:solidFill>
                <a:srgbClr val="3366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3200" y="2379600"/>
                <a:ext cx="3983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equation, the equation must be expressed in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94668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is, all variables and constants must be on one side of the equals sign with zero on the o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66880" y="1295280"/>
                <a:ext cx="3983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09480" y="64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for Solving Quadratic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95596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2 :   Quadratic Formu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200400" y="3505320"/>
                <a:ext cx="37083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66680" y="236232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1 :   Factoris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7913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4 :   Graphic Calcula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93704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3 :   Completing the Squ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80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1 :   Factor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2716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48120" y="1066680"/>
                <a:ext cx="30477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114800" y="2057400"/>
                <a:ext cx="3787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048120"/>
                <a:ext cx="35510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00400" y="4191120"/>
                <a:ext cx="5715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ther  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or   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5432400"/>
                <a:ext cx="1219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96080" y="5334120"/>
                <a:ext cx="1219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705720" y="54100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981080"/>
            <a:ext cx="274320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Equation in  the right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124080"/>
            <a:ext cx="274320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Factor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841920"/>
            <a:ext cx="2743200" cy="1281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eparate the two parts of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442120"/>
            <a:ext cx="274320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4: Solve each eq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971800"/>
            <a:ext cx="4724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114800"/>
            <a:ext cx="1904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11480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12716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14600" y="1066680"/>
                <a:ext cx="2819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1752480"/>
                <a:ext cx="3200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2438280"/>
                <a:ext cx="32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05120" y="4419720"/>
                <a:ext cx="54864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ther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or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038480" y="5084640"/>
                <a:ext cx="838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53080" y="5029200"/>
                <a:ext cx="8384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181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808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ints to no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905120"/>
            <a:ext cx="373392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remember your factorisation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228840"/>
            <a:ext cx="8610480" cy="108108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is expressed as the product of two factors being equal to zero, therefore, one (or both) of the factors must be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5641920"/>
            <a:ext cx="8610480" cy="82548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eck your answers are correct you can substitute them one at a time into the original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286000"/>
            <a:ext cx="3505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434340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34340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127160"/>
            <a:ext cx="213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76720" y="1066680"/>
                <a:ext cx="28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1981080"/>
                <a:ext cx="1295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41911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62120" y="3808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ing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59040" y="1905120"/>
                <a:ext cx="3260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70280" y="4191120"/>
                <a:ext cx="29210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380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1 :   Factor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2716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54560" y="1066680"/>
                <a:ext cx="22348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229280" y="2057400"/>
                <a:ext cx="3557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492800" y="3048120"/>
                <a:ext cx="3403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527280" y="4221000"/>
                <a:ext cx="531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ther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or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75440" y="5432400"/>
                <a:ext cx="1029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696080" y="5398920"/>
                <a:ext cx="1467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705720" y="54100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74320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Equation in  the right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124080"/>
            <a:ext cx="274320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Factor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841920"/>
            <a:ext cx="2743200" cy="1281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eparate the two parts of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42120"/>
            <a:ext cx="274320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4: Solve each eq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971800"/>
            <a:ext cx="4038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11480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11480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3952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2 :   Quadratic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06668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24080" y="990720"/>
                <a:ext cx="260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19920" y="152280"/>
                <a:ext cx="2743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297320" y="2652840"/>
                <a:ext cx="3703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343400" y="3765600"/>
                <a:ext cx="25779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52760" y="4722840"/>
                <a:ext cx="1919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343400" y="5656320"/>
                <a:ext cx="2062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80880" y="2286000"/>
            <a:ext cx="4724640" cy="436320"/>
          </a:xfrm>
          <a:prstGeom prst="rect">
            <a:avLst/>
          </a:prstGeom>
          <a:solidFill>
            <a:srgbClr val="ffd1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a =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1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–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8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and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c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–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00200"/>
            <a:ext cx="6553440" cy="520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Determin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895480"/>
            <a:ext cx="3505320" cy="916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Substitut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948120"/>
            <a:ext cx="350532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impl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5987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See next sl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715000"/>
            <a:ext cx="3276720" cy="997920"/>
          </a:xfrm>
          <a:prstGeom prst="rect">
            <a:avLst/>
          </a:prstGeom>
          <a:solidFill>
            <a:srgbClr val="ceff9d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tep is optional. Students need to have covered su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75300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08:45:42Z</dcterms:created>
  <dc:creator>Academic PowerPoint</dc:creator>
  <dc:description/>
  <dc:language>en-US</dc:language>
  <cp:lastModifiedBy>David Parnis</cp:lastModifiedBy>
  <cp:lastPrinted>2002-09-19T13:27:08Z</cp:lastPrinted>
  <dcterms:modified xsi:type="dcterms:W3CDTF">2004-11-08T05:24:56Z</dcterms:modified>
  <cp:revision>79</cp:revision>
  <dc:subject>Mathematics</dc:subject>
  <dc:title>Solving Quadratics</dc:title>
</cp:coreProperties>
</file>